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B90E-4E4B-4F05-9C36-02D06323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59E4-2D75-46B3-B6FB-47EFA5BD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B5F2-F75A-448B-9472-037EB081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04A6-3035-4F43-8B29-5FE745E1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E599-9CA4-4669-BD8C-9095F98A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E3C3-1CDD-41DE-8816-47FC4C84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8F69-FD9E-4331-B612-64812404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1FBB-D576-4D30-9A32-D46286AC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E40E-8454-438E-802A-0D5D7B28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8D96-B88A-4CE1-8F14-5FACA57C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5309-4575-43D3-9913-B98F8EB1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543E-D2AB-4585-9C4C-6211ABF5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1614-1C91-4EDE-86F0-2FCEF912F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838080"/>
            <a:ext cx="373392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838080"/>
            <a:ext cx="373392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85800" y="1143000"/>
          <a:ext cx="318924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43000"/>
                    <a:ext cx="31892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133720" y="1143000"/>
            <a:ext cx="1904760" cy="1066680"/>
          </a:xfrm>
          <a:custGeom>
            <a:avLst/>
            <a:gdLst>
              <a:gd name="textAreaLeft" fmla="*/ 333360 w 1904760"/>
              <a:gd name="textAreaRight" fmla="*/ 1380960 w 1904760"/>
              <a:gd name="textAreaTop" fmla="*/ 142920 h 1066680"/>
              <a:gd name="textAreaBottom" fmla="*/ 9237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638680" y="1066680"/>
          <a:ext cx="2462400" cy="441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1066680"/>
                    <a:ext cx="24624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7086600" y="1143000"/>
            <a:ext cx="1143000" cy="12193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163080 h 1219320"/>
              <a:gd name="textAreaBottom" fmla="*/ 10562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838080"/>
            <a:ext cx="373392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838080"/>
            <a:ext cx="373392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981080" y="1143000"/>
          <a:ext cx="18036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143000"/>
                    <a:ext cx="1803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838080" y="1523880"/>
            <a:ext cx="533520" cy="3962520"/>
          </a:xfrm>
          <a:prstGeom prst="upArrow">
            <a:avLst>
              <a:gd name="adj1" fmla="val 50000"/>
              <a:gd name="adj2" fmla="val 1856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334120" y="2514600"/>
          <a:ext cx="2895480" cy="27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2514600"/>
                    <a:ext cx="289548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5334120" y="1295280"/>
            <a:ext cx="1066680" cy="1219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838080"/>
            <a:ext cx="373392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52880" y="838080"/>
            <a:ext cx="373392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762120" y="1295280"/>
          <a:ext cx="3276360" cy="28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3276360" cy="28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 rot="727800">
            <a:off x="2057400" y="4038120"/>
            <a:ext cx="1447920" cy="609840"/>
          </a:xfrm>
          <a:prstGeom prst="leftArrow">
            <a:avLst>
              <a:gd name="adj1" fmla="val 50000"/>
              <a:gd name="adj2" fmla="val 5935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181480" y="1905120"/>
          <a:ext cx="332100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1905120"/>
                    <a:ext cx="33210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 flipH="1">
            <a:off x="6400800" y="1295280"/>
            <a:ext cx="1905120" cy="609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838080"/>
            <a:ext cx="373392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838080"/>
            <a:ext cx="373392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838080" y="1143000"/>
          <a:ext cx="29196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43000"/>
                    <a:ext cx="29196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410080" y="990720"/>
          <a:ext cx="2934000" cy="480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990720"/>
                    <a:ext cx="2934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838080"/>
            <a:ext cx="373392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838080"/>
            <a:ext cx="373392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105520" y="2057400"/>
            <a:ext cx="35049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ATTE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N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09480" y="3048120"/>
            <a:ext cx="3505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ALTA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838080"/>
            <a:ext cx="373392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838080"/>
            <a:ext cx="373392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105520" y="2971800"/>
            <a:ext cx="3504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EDETEV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480" y="2971800"/>
            <a:ext cx="3505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LZATEV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838080"/>
            <a:ext cx="373392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52880" y="838080"/>
            <a:ext cx="373392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105520" y="2209680"/>
            <a:ext cx="350496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LZA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 MAN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09480" y="2057400"/>
            <a:ext cx="35053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OCCA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 PIED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838080"/>
            <a:ext cx="373392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838080"/>
            <a:ext cx="373392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105520" y="2971800"/>
            <a:ext cx="3504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IANGE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9480" y="2971800"/>
            <a:ext cx="3505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ORRIDE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3T03:46:09Z</dcterms:created>
  <dc:creator>Preferred Customer</dc:creator>
  <dc:description/>
  <dc:language>en-US</dc:language>
  <cp:lastModifiedBy>Preferred Customer</cp:lastModifiedBy>
  <cp:lastPrinted>2003-09-13T03:46:45Z</cp:lastPrinted>
  <dcterms:modified xsi:type="dcterms:W3CDTF">2003-09-13T04:06:28Z</dcterms:modified>
  <cp:revision>5</cp:revision>
  <dc:subject/>
  <dc:title>No Slide Title</dc:title>
</cp:coreProperties>
</file>